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DD5-0FF6-4ACF-8CF8-B5803DE0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82D-8251-4C3F-8BB4-9EAA4AD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C10-1A0A-4CD0-BDF6-C46DA4CC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1A7-B500-44FE-AFA1-DBD48991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4143-B88E-44AC-8E4B-49301EF0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9ABA-2118-426F-BBEF-0E33E39E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D127-44F7-46EC-AACA-7B3E59B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52E-21A0-41E4-BCA5-AEBE45F2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2F0-4412-491D-BE48-249D0055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A1E9-69FD-4CA7-B83C-0443BBB9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BDC6-F7E5-4E96-8867-77CF4191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8BA-902E-4AB1-9B6D-8D5A17BC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CDAD-2544-4588-B911-F329C889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96C7-3AE8-477D-9276-208B75C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E932-8D64-4908-A5C0-29056AF2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9D1D-3E77-49DF-AC7A-3231BE4D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2DC9-9C1D-4C4E-B23C-7A9B3694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3BB51-EA64-4D0A-8D9A-E327F8EA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B6FB4-86A6-4341-A791-95025B5B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C8DEF-0408-4CAD-BCAC-AECBA0CD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AE9C5-6596-4C16-A7C2-200DD89B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3EA03-7AB4-4085-8402-C23CE37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340-3971-40A8-A061-1621804F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6DACC-B3A9-4A9B-B70B-21E8ACE6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01B40-E9D3-439D-9036-BDDFD72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0E08B-480E-4FFC-A3CF-6335237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56890-6A17-4539-89E7-C91B966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F8A18-5B84-4044-A231-C3B23D9A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362E2-8149-4F10-AF0A-0D168592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8579E-C93C-4387-91CC-FE119B15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597D-3334-4EC3-8940-2826CF79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8205-8B48-44AC-AE49-A61D4DC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1FB4-FDEE-44E3-A207-6A1AC31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B8D-3E80-4C79-B191-30E69562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A6E4-F490-4638-B522-75A80E0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7A43-9CEE-4BDC-BDDF-25FAFB08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83B9-ADA9-4162-AB26-AF2B469E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8530-8F32-404A-9FA5-5D58F06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9EA5-6F75-4B47-B099-668C3FD2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2BC5F-6DF9-4CD2-8543-2EC1ADE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37B5-D5D5-484D-A123-E7BF1D6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044C-01A4-4F3E-818A-06840D62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9F30-121E-47E9-9847-F5145770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5314-12D1-4AE9-AD41-672040FD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2DE-A865-4B5F-B1B1-2D2E43E5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2BCAC-5E64-4208-9342-7F1F8B56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2910-B2EB-4D32-8AA5-F92C692D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9637-5A5F-4AC1-A50F-8AB28E09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987F3-D63E-46DC-A3DB-067F9C4C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AD58E-40A9-44DD-A8E3-F238BDCA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DF49-78DD-4706-A622-382E64E2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9108-2FB4-4D4C-B1BF-8A91472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E8949-2820-49EB-BD41-0AF8654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C1D5C-DFED-469E-99A4-52244300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732B-2112-45FB-B3DA-E9B349F3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916-2FF7-4529-AFE6-09AFE9BA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C3A66-9DD7-49B1-A75D-522B968B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0F0F5-D75B-4FDE-92D9-A31BBF8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7907F-3C15-46A5-A40B-C8E27C4B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BECE-BBD2-462D-8C81-B24FE02F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E1460-5B07-4CAA-86B3-90237B4E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A5F5-CA39-426A-8027-0DC36EA7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A6B59-8035-4DC6-BF8C-429C3DD8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5219-996A-4653-BA0C-025B229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18DE9-EC3C-46B6-90C2-D58EA1B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4EFBC-AB3B-4A90-AB8D-6B23A49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93D-1ADC-45D8-8A6B-0E09AE9C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69AA-7FE9-4BC6-9129-27EB194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9DA4-1377-41BB-86EE-F51B348D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FA9DF-FD66-4EB6-BA43-88A8AF60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28D0-EDA0-47D7-AEEE-4949D596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553DD-A45B-44D2-B824-3DB71CB8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810B7-7E18-43CA-876E-569F638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1B3C0-CFCE-4D4C-9B8D-9F13EC1B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DAC04-1FB1-46F3-97A9-B545BD09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32471-9FB8-45FE-BB8A-58D179A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3E03C-F5F0-470C-BE02-BDC5DC1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EA0-2A4D-404A-B179-335C1EB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E937E-8143-40C6-BE3C-00088D2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C7C4-BE74-434E-B5EE-FDB9993A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F36E0-60AB-4362-BF98-9BB75BE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7323-36BC-466E-A665-54CDF96D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B930D-C069-4A3D-99C1-5ABF2CCB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E47-BFEA-4D26-A372-ABAA95F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3DBA-4658-4ECD-A79F-A8CEBE41A121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B74F-E032-4048-9A4A-BDA9500EA3EE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A4CF-BBF5-4D79-A677-EBFCA556FA4A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18D2-16AE-44C8-BE4B-DA32DD5E9346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2E2D-C1E3-45A5-B03D-EC251D270472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81BB-8506-4ED8-BFF2-04A50093E0B8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447-B3CC-49A4-9393-8BF0E43D62DD}" type="slidenum"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es t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Arial"/>
              </a:rPr>
              <a:t>é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Arial"/>
              </a:rPr>
              <a:t>é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visions en Franc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19320" y="4343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424456"/>
                </a:solidFill>
                <a:latin typeface="Georgia"/>
              </a:rPr>
              <a:t>France 5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8" name="Imagine 5" descr="untitled.bmp"/>
          <p:cNvPicPr/>
          <p:nvPr/>
        </p:nvPicPr>
        <p:blipFill>
          <a:blip r:embed="rId1"/>
          <a:stretch/>
        </p:blipFill>
        <p:spPr>
          <a:xfrm>
            <a:off x="4952880" y="3048120"/>
            <a:ext cx="2381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gramele canalulu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Animateurs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Des Documentire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Actu societ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D”Histoire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b050"/>
                </a:solidFill>
                <a:latin typeface="Georgia"/>
              </a:rPr>
              <a:t>Des Emissiones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sera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  <a:ea typeface="Arial"/>
              </a:rPr>
              <a:t>ţ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 un tip de emisiune (ex: stiri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Les aventures de Geranimo  Stilton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Les zouzou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Isoler sa maison por l”exterieu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50"/>
                </a:solidFill>
                <a:latin typeface="Georgia"/>
              </a:rPr>
              <a:t>France 5 emploi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3" name="Substituent conținut 12" descr="jp3hh72w.jpg"/>
          <p:cNvPicPr/>
          <p:nvPr/>
        </p:nvPicPr>
        <p:blipFill>
          <a:blip r:embed="rId1"/>
          <a:stretch/>
        </p:blipFill>
        <p:spPr>
          <a:xfrm>
            <a:off x="4114800" y="5029200"/>
            <a:ext cx="4038480" cy="587520"/>
          </a:xfrm>
          <a:prstGeom prst="rect">
            <a:avLst/>
          </a:prstGeom>
          <a:ln w="0">
            <a:noFill/>
          </a:ln>
        </p:spPr>
      </p:pic>
      <p:pic>
        <p:nvPicPr>
          <p:cNvPr id="384" name="Substituent conținut 11" descr="geronimo-stilton-408830.jpg"/>
          <p:cNvPicPr/>
          <p:nvPr/>
        </p:nvPicPr>
        <p:blipFill>
          <a:blip r:embed="rId2"/>
          <a:stretch/>
        </p:blipFill>
        <p:spPr>
          <a:xfrm>
            <a:off x="5573880" y="1600200"/>
            <a:ext cx="2187360" cy="218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Introduce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  <a:ea typeface="Arial"/>
              </a:rPr>
              <a:t>ţ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i cateva informatii generale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  <a:ea typeface="Arial"/>
              </a:rPr>
              <a:t>ş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i atractive despre tipul de emisiune prezentat mai sus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troduce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  <a:ea typeface="Arial"/>
              </a:rPr>
              <a:t>ţ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 alt tip de emisiuni difuzate (ex. seriale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numele emisiunilor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repet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aplic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a pentru fiecare tip de emisiune difuza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respec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d formatul de mai s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odu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o imagine la alegere (prezentatori TV, actori ai unui serial, etc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a une (emisiunea cea mai interesanta de pe postul respectiv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crieti pe scurt emisiunea care v-a atras atentia inserand o secventa filmata din aceast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De ce postul tv respectiv?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 modu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care postul tv ales 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flue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z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vi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de zi cu z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gument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unsul din perspectiv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ăţă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i limbii francez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user</cp:lastModifiedBy>
  <dcterms:modified xsi:type="dcterms:W3CDTF">2011-10-26T10:57:5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